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10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6D1A-E0C3-45F4-A146-FE9F8FDF3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D158-B27D-4841-9E06-AF71F7163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CC7A-6632-4DC8-8942-74EF65EAE5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ABAF-ECA3-40A2-8CD6-4E99C59C6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646EE-8DEF-4109-A582-079F6AD3A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90A62-E04E-4257-82D3-AEB9B2BF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4A04-01BA-4A43-94F7-5F79F85CB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6A9AB-3BDD-4E8F-990D-C21627D94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A4F5-9DB5-48FA-9B9D-077490EB9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65FB-3A84-4D6E-951C-015A0863B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C44E9-6D5B-4CC5-8225-932A2F210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577B-DC0A-47CE-B4E1-1F5E0DED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481D4-4195-4484-A1B9-0279C0AD7D0E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jpe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9000" y="36000"/>
            <a:ext cx="6480000" cy="86364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ff"/>
                </a:solidFill>
                <a:latin typeface="HGP創英角ｺﾞｼｯｸUB"/>
                <a:ea typeface="HGP創英角ｺﾞｼｯｸUB"/>
              </a:rPr>
              <a:t>配食をされる方へのお願いです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04640" y="973080"/>
            <a:ext cx="3672000" cy="107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気温が高くなり、食中毒の発生が心配されます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　次のことを必ず守りましょう！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http://www.jpnsport.go.jp/anzen/Portals/0/anzen/kenko/siryou/character2/m/M-04.png"/>
          <p:cNvPicPr/>
          <p:nvPr/>
        </p:nvPicPr>
        <p:blipFill>
          <a:blip r:embed="rId1"/>
          <a:stretch/>
        </p:blipFill>
        <p:spPr>
          <a:xfrm>
            <a:off x="4967280" y="7189920"/>
            <a:ext cx="1486080" cy="1485720"/>
          </a:xfrm>
          <a:prstGeom prst="rect">
            <a:avLst/>
          </a:prstGeom>
          <a:ln w="0">
            <a:noFill/>
          </a:ln>
        </p:spPr>
      </p:pic>
      <p:grpSp>
        <p:nvGrpSpPr>
          <p:cNvPr id="44" name="グループ化 1"/>
          <p:cNvGrpSpPr/>
          <p:nvPr/>
        </p:nvGrpSpPr>
        <p:grpSpPr>
          <a:xfrm>
            <a:off x="4375080" y="1143000"/>
            <a:ext cx="1646280" cy="1197000"/>
            <a:chOff x="4375080" y="1143000"/>
            <a:chExt cx="1646280" cy="1197000"/>
          </a:xfrm>
        </p:grpSpPr>
        <p:pic>
          <p:nvPicPr>
            <p:cNvPr id="45" name="Picture 8" descr="http://www.jpnsport.go.jp/anzen/Portals/0/anzen/kenko/siryou/character2/m/M-01.png"/>
            <p:cNvPicPr/>
            <p:nvPr/>
          </p:nvPicPr>
          <p:blipFill>
            <a:blip r:embed="rId2"/>
            <a:stretch/>
          </p:blipFill>
          <p:spPr>
            <a:xfrm>
              <a:off x="5003280" y="1320480"/>
              <a:ext cx="1018080" cy="1019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10" descr="http://www.jpnsport.go.jp/anzen/Portals/0/anzen/kenko/siryou/character2/m/M-02.png"/>
            <p:cNvPicPr/>
            <p:nvPr/>
          </p:nvPicPr>
          <p:blipFill>
            <a:blip r:embed="rId3"/>
            <a:stretch/>
          </p:blipFill>
          <p:spPr>
            <a:xfrm>
              <a:off x="4375080" y="1143000"/>
              <a:ext cx="1018080" cy="101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" name="Picture 20" descr="http://www.jpnsport.go.jp/anzen/Portals/0/anzen/kenko/siryou/character2/m/M-43.png"/>
          <p:cNvPicPr/>
          <p:nvPr/>
        </p:nvPicPr>
        <p:blipFill>
          <a:blip r:embed="rId4"/>
          <a:stretch/>
        </p:blipFill>
        <p:spPr>
          <a:xfrm>
            <a:off x="3605040" y="6084720"/>
            <a:ext cx="1486080" cy="1486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5" descr="C:\Users\kumamoto\Desktop\illustration_article\手袋.jpg"/>
          <p:cNvPicPr/>
          <p:nvPr/>
        </p:nvPicPr>
        <p:blipFill>
          <a:blip r:embed="rId5"/>
          <a:stretch/>
        </p:blipFill>
        <p:spPr>
          <a:xfrm>
            <a:off x="1906560" y="3868560"/>
            <a:ext cx="855720" cy="8017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7" descr="C:\Users\kumamoto\Pictures\図1.png"/>
          <p:cNvPicPr/>
          <p:nvPr/>
        </p:nvPicPr>
        <p:blipFill>
          <a:blip r:embed="rId6"/>
          <a:stretch/>
        </p:blipFill>
        <p:spPr>
          <a:xfrm>
            <a:off x="1773360" y="2916360"/>
            <a:ext cx="2538360" cy="1892160"/>
          </a:xfrm>
          <a:prstGeom prst="rect">
            <a:avLst/>
          </a:prstGeom>
          <a:ln w="0">
            <a:noFill/>
          </a:ln>
        </p:spPr>
      </p:pic>
      <p:sp>
        <p:nvSpPr>
          <p:cNvPr id="50" name="角丸四角形吹き出し 5"/>
          <p:cNvSpPr/>
          <p:nvPr/>
        </p:nvSpPr>
        <p:spPr>
          <a:xfrm>
            <a:off x="4354560" y="2973240"/>
            <a:ext cx="1535040" cy="895320"/>
          </a:xfrm>
          <a:prstGeom prst="wedgeRoundRectCallout">
            <a:avLst>
              <a:gd name="adj1" fmla="val -90523"/>
              <a:gd name="adj2" fmla="val 62500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マスク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Calibri"/>
              </a:rPr>
              <a:t>鼻まできちんとおおう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角丸四角形吹き出し 25"/>
          <p:cNvSpPr/>
          <p:nvPr/>
        </p:nvSpPr>
        <p:spPr>
          <a:xfrm>
            <a:off x="4356000" y="4179960"/>
            <a:ext cx="1535040" cy="896760"/>
          </a:xfrm>
          <a:prstGeom prst="wedgeRoundRectCallout">
            <a:avLst>
              <a:gd name="adj1" fmla="val -105416"/>
              <a:gd name="adj2" fmla="val -16083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清潔な衣服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角丸四角形吹き出し 26"/>
          <p:cNvSpPr/>
          <p:nvPr/>
        </p:nvSpPr>
        <p:spPr>
          <a:xfrm>
            <a:off x="711360" y="2967120"/>
            <a:ext cx="1535040" cy="896760"/>
          </a:xfrm>
          <a:prstGeom prst="wedgeRoundRectCallout">
            <a:avLst>
              <a:gd name="adj1" fmla="val 65884"/>
              <a:gd name="adj2" fmla="val 43384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使い捨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Calibri"/>
              </a:rPr>
              <a:t>手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角丸四角形 7"/>
          <p:cNvSpPr/>
          <p:nvPr/>
        </p:nvSpPr>
        <p:spPr>
          <a:xfrm>
            <a:off x="333360" y="2106720"/>
            <a:ext cx="3240000" cy="520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★</a:t>
            </a: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身だしなみをととのえ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角丸四角形 29"/>
          <p:cNvSpPr/>
          <p:nvPr/>
        </p:nvSpPr>
        <p:spPr>
          <a:xfrm>
            <a:off x="189000" y="5346720"/>
            <a:ext cx="3031920" cy="520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★</a:t>
            </a: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体調をととのえる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角丸四角形 30"/>
          <p:cNvSpPr/>
          <p:nvPr/>
        </p:nvSpPr>
        <p:spPr>
          <a:xfrm>
            <a:off x="3540240" y="5346720"/>
            <a:ext cx="3152520" cy="520560"/>
          </a:xfrm>
          <a:prstGeom prst="roundRect">
            <a:avLst>
              <a:gd name="adj" fmla="val 16667"/>
            </a:avLst>
          </a:prstGeom>
          <a:solidFill>
            <a:srgbClr val="0070c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★</a:t>
            </a:r>
            <a:r>
              <a:rPr b="1" lang="ja-JP" sz="2000" spc="-1" strike="noStrike">
                <a:solidFill>
                  <a:srgbClr val="ffffff"/>
                </a:solidFill>
                <a:latin typeface="Calibri"/>
              </a:rPr>
              <a:t>配食の前に手をよく洗う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6" name="グループ化 21"/>
          <p:cNvGrpSpPr/>
          <p:nvPr/>
        </p:nvGrpSpPr>
        <p:grpSpPr>
          <a:xfrm>
            <a:off x="356040" y="6492960"/>
            <a:ext cx="2982240" cy="2400120"/>
            <a:chOff x="356040" y="6492960"/>
            <a:chExt cx="2982240" cy="2400120"/>
          </a:xfrm>
        </p:grpSpPr>
        <p:pic>
          <p:nvPicPr>
            <p:cNvPr id="57" name="Picture 16" descr="http://www.jpnsport.go.jp/anzen/Portals/0/anzen/kenko/siryou/character2/m/M-41.png"/>
            <p:cNvPicPr/>
            <p:nvPr/>
          </p:nvPicPr>
          <p:blipFill>
            <a:blip r:embed="rId7"/>
            <a:stretch/>
          </p:blipFill>
          <p:spPr>
            <a:xfrm>
              <a:off x="356040" y="7095240"/>
              <a:ext cx="1240560" cy="124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18" descr="http://www.jpnsport.go.jp/anzen/Portals/0/anzen/kenko/siryou/character2/m/M-40.png"/>
            <p:cNvPicPr/>
            <p:nvPr/>
          </p:nvPicPr>
          <p:blipFill>
            <a:blip r:embed="rId8"/>
            <a:stretch/>
          </p:blipFill>
          <p:spPr>
            <a:xfrm>
              <a:off x="1176120" y="6492960"/>
              <a:ext cx="1088280" cy="1088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Picture 19" descr="http://www.jpnsport.go.jp/anzen/Portals/0/anzen/kenko/siryou/character2/m/M-56.png"/>
            <p:cNvPicPr/>
            <p:nvPr/>
          </p:nvPicPr>
          <p:blipFill>
            <a:blip r:embed="rId9"/>
            <a:stretch/>
          </p:blipFill>
          <p:spPr>
            <a:xfrm>
              <a:off x="1176120" y="7640280"/>
              <a:ext cx="1253160" cy="125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" name="Picture 22" descr="C:\Users\kumamoto\Pictures\1244385907[1].jpg"/>
            <p:cNvPicPr/>
            <p:nvPr/>
          </p:nvPicPr>
          <p:blipFill>
            <a:blip r:embed="rId10"/>
            <a:stretch/>
          </p:blipFill>
          <p:spPr>
            <a:xfrm>
              <a:off x="2103120" y="7166880"/>
              <a:ext cx="591840" cy="7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直線コネクタ 10"/>
            <p:cNvSpPr/>
            <p:nvPr/>
          </p:nvSpPr>
          <p:spPr>
            <a:xfrm>
              <a:off x="946080" y="6851520"/>
              <a:ext cx="1641600" cy="141444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直線コネクタ 35"/>
            <p:cNvSpPr/>
            <p:nvPr/>
          </p:nvSpPr>
          <p:spPr>
            <a:xfrm flipV="1">
              <a:off x="893520" y="6827400"/>
              <a:ext cx="1549440" cy="1438200"/>
            </a:xfrm>
            <a:prstGeom prst="line">
              <a:avLst/>
            </a:prstGeom>
            <a:ln w="507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テキスト ボックス 20"/>
            <p:cNvSpPr/>
            <p:nvPr/>
          </p:nvSpPr>
          <p:spPr>
            <a:xfrm>
              <a:off x="577080" y="8336160"/>
              <a:ext cx="358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Calibri"/>
                </a:rPr>
                <a:t>腹痛・下痢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テキスト ボックス 45"/>
            <p:cNvSpPr/>
            <p:nvPr/>
          </p:nvSpPr>
          <p:spPr>
            <a:xfrm>
              <a:off x="1905840" y="654408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Calibri"/>
                </a:rPr>
                <a:t>嘔吐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テキスト ボックス 46"/>
            <p:cNvSpPr/>
            <p:nvPr/>
          </p:nvSpPr>
          <p:spPr>
            <a:xfrm>
              <a:off x="2201040" y="8435520"/>
              <a:ext cx="394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Calibri"/>
                </a:rPr>
                <a:t>発熱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テキスト ボックス 47"/>
            <p:cNvSpPr/>
            <p:nvPr/>
          </p:nvSpPr>
          <p:spPr>
            <a:xfrm>
              <a:off x="2730960" y="7883280"/>
              <a:ext cx="607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ja-JP" sz="1400" spc="-1" strike="noStrike">
                  <a:solidFill>
                    <a:srgbClr val="000000"/>
                  </a:solidFill>
                  <a:latin typeface="Calibri"/>
                </a:rPr>
                <a:t>指のけが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67" name="テキスト ボックス 22"/>
          <p:cNvSpPr/>
          <p:nvPr/>
        </p:nvSpPr>
        <p:spPr>
          <a:xfrm>
            <a:off x="1634760" y="6048360"/>
            <a:ext cx="273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ff0000"/>
                </a:solidFill>
                <a:latin typeface="Calibri"/>
              </a:rPr>
              <a:t>こんなときは、配食できません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角丸四角形吹き出し 51"/>
          <p:cNvSpPr/>
          <p:nvPr/>
        </p:nvSpPr>
        <p:spPr>
          <a:xfrm>
            <a:off x="5091120" y="6051600"/>
            <a:ext cx="1601640" cy="896760"/>
          </a:xfrm>
          <a:prstGeom prst="wedgeRoundRectCallout">
            <a:avLst>
              <a:gd name="adj1" fmla="val -72523"/>
              <a:gd name="adj2" fmla="val 31703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石けんを使ってしっかり洗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角丸四角形吹き出し 52"/>
          <p:cNvSpPr/>
          <p:nvPr/>
        </p:nvSpPr>
        <p:spPr>
          <a:xfrm>
            <a:off x="3540240" y="7932600"/>
            <a:ext cx="1600200" cy="897120"/>
          </a:xfrm>
          <a:prstGeom prst="wedgeRoundRectCallout">
            <a:avLst>
              <a:gd name="adj1" fmla="val 67259"/>
              <a:gd name="adj2" fmla="val -15023"/>
              <a:gd name="adj3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Calibri"/>
              </a:rPr>
              <a:t>手洗い後は、消毒液を使う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6-07T02:53:46Z</dcterms:created>
  <dc:creator>kumamoto</dc:creator>
  <dc:description/>
  <dc:language>en-US</dc:language>
  <cp:lastModifiedBy>kumamoto</cp:lastModifiedBy>
  <cp:lastPrinted>2016-06-07T10:49:54Z</cp:lastPrinted>
  <dcterms:modified xsi:type="dcterms:W3CDTF">2017-03-29T02:15:41Z</dcterms:modified>
  <cp:revision>11</cp:revision>
  <dc:subject/>
  <dc:title>配食をされる方へのお願いです。</dc:title>
</cp:coreProperties>
</file>