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AEA3-EF01-417A-860B-F4C20C780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A95A-37B7-499A-B607-74108172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73D6-FADF-40BD-A61B-1A8AF50C0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D06-9F30-406B-8852-B5FF06C60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7F68F-D348-4E0C-8594-5DFA5800F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0BF82-1B24-4D84-92C9-DAC817511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8D8F6-D5A2-4E41-86E5-D47C8BC69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84C0-466D-442F-8D85-65B883D93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59F90-FDD9-4CC5-BA04-E718A1FD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AF4C-8D2E-4824-A866-D18C84A46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D365-2D30-4D3C-8DD4-749ED93E7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A8FE-20B7-4E10-A4A6-DDEDE3CE4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3FCB-DD1D-43DE-8C4E-B757FF4580AA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8120" y="1643040"/>
            <a:ext cx="5829480" cy="1960560"/>
          </a:xfrm>
          <a:prstGeom prst="rect">
            <a:avLst/>
          </a:prstGeom>
          <a:noFill/>
          <a:ln w="57240">
            <a:solidFill>
              <a:srgbClr val="7f7f7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5400" spc="-1" strike="noStrike">
                <a:solidFill>
                  <a:srgbClr val="000000"/>
                </a:solidFill>
                <a:latin typeface="Calibri"/>
              </a:rPr>
              <a:t>食物アレルギーは</a:t>
            </a:r>
            <a:br>
              <a:rPr sz="5400"/>
            </a:br>
            <a:r>
              <a:rPr b="0" lang="ja-JP" sz="5400" spc="-1" strike="noStrike">
                <a:solidFill>
                  <a:srgbClr val="000000"/>
                </a:solidFill>
                <a:latin typeface="Calibri"/>
              </a:rPr>
              <a:t>ありませんか？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0040" y="3714840"/>
            <a:ext cx="585792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ない　・　</a:t>
            </a:r>
            <a:r>
              <a:rPr b="0" lang="ja-JP" sz="3200" spc="-1" strike="noStrike" u="sng">
                <a:solidFill>
                  <a:srgbClr val="000000"/>
                </a:solidFill>
                <a:uFillTx/>
                <a:latin typeface="Calibri"/>
              </a:rPr>
              <a:t>あ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「ある」と回答された方は具体的にお答えください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000000"/>
                </a:solidFill>
                <a:latin typeface="Calibri"/>
              </a:rPr>
              <a:t>食べてはいけない食品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タイトル 1"/>
          <p:cNvSpPr/>
          <p:nvPr/>
        </p:nvSpPr>
        <p:spPr>
          <a:xfrm>
            <a:off x="2928960" y="428760"/>
            <a:ext cx="3571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記入日　　 （　　　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　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区画番号　（　　 　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-</a:t>
            </a: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　　     　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Calibri"/>
              </a:rPr>
              <a:t>お名前　 　（　　　　　　　　       　）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図 4" descr="illust122.png"/>
          <p:cNvPicPr/>
          <p:nvPr/>
        </p:nvPicPr>
        <p:blipFill>
          <a:blip r:embed="rId1"/>
          <a:stretch/>
        </p:blipFill>
        <p:spPr>
          <a:xfrm>
            <a:off x="5072040" y="6572160"/>
            <a:ext cx="1285920" cy="2220840"/>
          </a:xfrm>
          <a:prstGeom prst="rect">
            <a:avLst/>
          </a:prstGeom>
          <a:ln w="0">
            <a:noFill/>
          </a:ln>
        </p:spPr>
      </p:pic>
      <p:cxnSp>
        <p:nvCxnSpPr>
          <p:cNvPr id="45" name="カギ線コネクタ 6"/>
          <p:cNvCxnSpPr/>
          <p:nvPr/>
        </p:nvCxnSpPr>
        <p:spPr>
          <a:xfrm rot="5400000">
            <a:off x="2270520" y="3108960"/>
            <a:ext cx="827640" cy="30614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5T00:26:58Z</dcterms:created>
  <dc:creator>pc-mnt</dc:creator>
  <dc:description/>
  <dc:language>en-US</dc:language>
  <cp:lastModifiedBy>kumamoto</cp:lastModifiedBy>
  <dcterms:modified xsi:type="dcterms:W3CDTF">2017-03-29T02:32:49Z</dcterms:modified>
  <cp:revision>3</cp:revision>
  <dc:subject/>
  <dc:title>食物アレルギーは ありませんか？</dc:title>
</cp:coreProperties>
</file>